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09D-E529-4236-A669-A06BC55A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06D-6A8A-4383-944B-54110730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E73-47CD-42C2-B135-13503F50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EB1-783F-4B9C-B1F1-DE429F88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8A08-B60D-4230-94FF-CC22731F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2891-B5FD-4B1D-A730-ED2D6A4E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5B79-14C6-41C9-A2A5-CA1321F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D1F7-AB71-4087-946A-72D299CD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608-F3B2-4983-A16C-B31F7519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762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F07-A4E3-4A03-8BC6-0769CF31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A487-E8B2-4FC1-954E-27DFA5EB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E37-C057-4864-8FAC-C837BC09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C155-D925-417C-9D8A-3C349DD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F234-F37D-49F2-8F8E-31E309D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3920-0558-4E79-B6EE-F40B9776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859E-FD10-4165-9B27-92429961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DA9E-DBB7-431F-B360-DAA7A45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B87-6C9D-4B74-80D9-8775FB2D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626-5D84-47CF-B947-DE80213E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E41-6437-43B2-BFAB-EA6B55A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4762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6A6-ADA5-4787-9704-8DBC371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B06-07DB-48CF-A891-405764A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516-36EB-469D-BE76-80FDF44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D9D-8685-44A4-9F02-89D16EF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4800" cy="755640"/>
            <a:chOff x="0" y="0"/>
            <a:chExt cx="9154800" cy="755640"/>
          </a:xfrm>
        </p:grpSpPr>
        <p:sp>
          <p:nvSpPr>
            <p:cNvPr id="1" name=""/>
            <p:cNvSpPr/>
            <p:nvPr/>
          </p:nvSpPr>
          <p:spPr>
            <a:xfrm>
              <a:off x="7560" y="0"/>
              <a:ext cx="9147240" cy="75564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160"/>
              <a:ext cx="406080" cy="40068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560" y="0"/>
              <a:ext cx="1123560" cy="72720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7720" y="425880"/>
              <a:ext cx="398160" cy="30744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080" y="0"/>
              <a:ext cx="252000" cy="114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360" y="0"/>
              <a:ext cx="721800" cy="3423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7880" y="58320"/>
              <a:ext cx="657000" cy="17100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0760" y="0"/>
              <a:ext cx="825120" cy="35640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3760" y="243720"/>
              <a:ext cx="684000" cy="36936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0280" y="137880"/>
              <a:ext cx="628200" cy="35964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3520" y="379800"/>
              <a:ext cx="818640" cy="35352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160" y="513360"/>
              <a:ext cx="656640" cy="15840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3440" y="594000"/>
              <a:ext cx="237600" cy="11376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6480" y="422640"/>
              <a:ext cx="234720" cy="14436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2240" y="91800"/>
              <a:ext cx="1488600" cy="25020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0360" y="229320"/>
              <a:ext cx="590400" cy="15552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2360" y="487800"/>
              <a:ext cx="504720" cy="25020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6920" y="460800"/>
              <a:ext cx="603000" cy="27576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1560" y="296280"/>
              <a:ext cx="829800" cy="10908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2280" y="294480"/>
              <a:ext cx="852120" cy="18972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5440" y="494280"/>
              <a:ext cx="1269360" cy="22608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0920" y="379800"/>
              <a:ext cx="637920" cy="18216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7400" cy="136080"/>
            <a:chOff x="0" y="6180120"/>
            <a:chExt cx="9167400" cy="136080"/>
          </a:xfrm>
        </p:grpSpPr>
        <p:sp>
          <p:nvSpPr>
            <p:cNvPr id="24" name=""/>
            <p:cNvSpPr/>
            <p:nvPr/>
          </p:nvSpPr>
          <p:spPr>
            <a:xfrm>
              <a:off x="6413760" y="6203520"/>
              <a:ext cx="2753640" cy="1126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040" y="6189480"/>
              <a:ext cx="4213440" cy="936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39280" cy="96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3680" indent="-28116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200" y="6367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97DE5-14B7-4E08-B892-6182C279B65F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4800" cy="755640"/>
            <a:chOff x="19080" y="1109520"/>
            <a:chExt cx="9154800" cy="755640"/>
          </a:xfrm>
        </p:grpSpPr>
        <p:sp>
          <p:nvSpPr>
            <p:cNvPr id="69" name=""/>
            <p:cNvSpPr/>
            <p:nvPr/>
          </p:nvSpPr>
          <p:spPr>
            <a:xfrm>
              <a:off x="26640" y="1109520"/>
              <a:ext cx="9147240" cy="75564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4680"/>
              <a:ext cx="406080" cy="400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640" y="1109520"/>
              <a:ext cx="1123560" cy="7268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6800" y="1535760"/>
              <a:ext cx="397800" cy="3067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160" y="1109520"/>
              <a:ext cx="252000" cy="114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440" y="1109520"/>
              <a:ext cx="721800" cy="342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6960" y="1168200"/>
              <a:ext cx="657000" cy="170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59840" y="1109520"/>
              <a:ext cx="825120" cy="35640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2840" y="1353240"/>
              <a:ext cx="684000" cy="36900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9360" y="1247400"/>
              <a:ext cx="628200" cy="3592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2600" y="1489680"/>
              <a:ext cx="818640" cy="3528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240" y="1622520"/>
              <a:ext cx="656640" cy="15804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2520" y="1703520"/>
              <a:ext cx="23760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5560" y="1532520"/>
              <a:ext cx="234360" cy="1440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1320" y="1201320"/>
              <a:ext cx="1488600" cy="25020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69440" y="1339200"/>
              <a:ext cx="590400" cy="1548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1440" y="1597320"/>
              <a:ext cx="504720" cy="24984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6000" y="1570320"/>
              <a:ext cx="603000" cy="27540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0640" y="1405800"/>
              <a:ext cx="829800" cy="10908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1360" y="1404360"/>
              <a:ext cx="852120" cy="18972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4160" y="1603440"/>
              <a:ext cx="1269720" cy="2264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0000" y="1489680"/>
              <a:ext cx="637920" cy="18180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7400" cy="136080"/>
            <a:chOff x="20520" y="6161040"/>
            <a:chExt cx="9167400" cy="136080"/>
          </a:xfrm>
        </p:grpSpPr>
        <p:sp>
          <p:nvSpPr>
            <p:cNvPr id="92" name=""/>
            <p:cNvSpPr/>
            <p:nvPr/>
          </p:nvSpPr>
          <p:spPr>
            <a:xfrm>
              <a:off x="6434280" y="6184440"/>
              <a:ext cx="2753640" cy="1126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1560" y="6170400"/>
              <a:ext cx="4213800" cy="936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39640" cy="9720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6960"/>
            <a:ext cx="777096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440" y="634824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3720" y="634824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660A3-4E58-49A4-BDAA-C042FA0F7A7B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40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Verdana"/>
              </a:rPr>
              <a:t>Thursday's Terrific Top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Entrance task: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Prepare to be dazzle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Today: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Reforms in England and the Irish Potato issue - was it a famine or genoci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Homework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- Review Ch. 23, essay thing due Friday, test on Frida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nead O'Conn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ami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ok at a document analysis sheet in your study gui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ply this song as a primary source to these questions (in your mind, not on paper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itor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sider the document analysis questions in context of this editoria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nish Ch. 2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Quiz tomorrow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720" y="685440"/>
            <a:ext cx="2057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e potato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50040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78168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38440" y="1035000"/>
            <a:ext cx="566892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29460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700740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5818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552132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081320" cy="6043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06760" y="304920"/>
            <a:ext cx="47372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rkshopguest1</dc:creator>
  <dc:description/>
  <dc:language>en-US</dc:language>
  <cp:lastModifiedBy>Susan Vanderpool</cp:lastModifiedBy>
  <dcterms:modified xsi:type="dcterms:W3CDTF">2008-07-07T01:57:32Z</dcterms:modified>
  <cp:revision>1</cp:revision>
  <dc:subject/>
  <dc:title>Tuesday’s Terrific Topics</dc:title>
</cp:coreProperties>
</file>